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6D79-573E-4B36-BBF7-4FEDE1A4B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ADCF-0893-4301-8101-DE274C8F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C532-F457-4252-80ED-0E2662F47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F993-1A29-49C8-A33D-6DF62816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B7A8-3136-40C8-B74E-C5656E8D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0110-E727-45C1-B07D-ECCFD3E7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030F-6ACB-426D-9366-8FA520F8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F160-32A8-4FB5-8F31-81239C2F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2521-58DA-46CB-BC74-6E23861E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7435-6D06-4A7B-B020-AF72CEF0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7E2B-E3ED-43FD-87F1-45E7FC94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6A11-0CA4-4D3D-ADD4-48B1B9C5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457D-1914-4CA8-AB23-243B6482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42CD-9E31-4F0E-8180-5EA49508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1B1A-6F5D-4389-A02A-EDA21D5B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5895-457C-46D5-A38C-B4151F279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241A-4AAE-49C0-B022-97BDA31DA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01D5-9CDE-430C-A30F-A49E67FE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9745-9B2A-444B-BFED-9FEC4093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59A8-FE89-421D-9E27-3337F7D2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3573-EF4C-4104-8FD0-BBE46C42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1C36-42ED-46C0-A8AE-4D6D98EC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6441-72A3-48E1-B188-DFCE8B9F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5B6B-B658-47C9-BA02-23D2EA62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168B-CF41-4DE2-8DA0-47E39913F80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6857-2431-45C6-A574-E628728EC91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ame T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chfield Jr. Hig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V is for Vendet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0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your Jr. High)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Modo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0000"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Your favorite movie or book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70000" indent="0" algn="ctr">
              <a:lnSpc>
                <a:spcPct val="80000"/>
              </a:lnSpc>
              <a:spcBef>
                <a:spcPts val="1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Comic Sans MS"/>
              </a:rPr>
              <a:t>Ms. Werner</a:t>
            </a:r>
            <a:endParaRPr b="0" lang="en-US" sz="6900" spc="-1" strike="noStrike">
              <a:solidFill>
                <a:srgbClr val="000000"/>
              </a:solidFill>
              <a:latin typeface="Comic Sans MS"/>
            </a:endParaRPr>
          </a:p>
          <a:p>
            <a:pPr marL="27000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Your Name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70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0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Your favorite color)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Your favorite word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70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lu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uchnab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do I need for English clas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r br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lann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lue or black p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se leaf paper or note p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st-i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-ring binder with 2 envelopes and 4 tab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 accordion f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cus this term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ower of words in nonfi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ding nonfi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ech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ograph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tic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aring fictional accounts to actual events (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The Crucib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ssay of Int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5345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NGS YOU SHOULD COVER IN YOUR ESS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ll me about yourself—family, sports, interests/ hobbies, talents, jobs, a recent move, how you spent your summer, favorite movie/book/band, et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kind of a student are you?  What should I know about your learning style or needs and your academic ability?  Are there any concerns or frustrations you have with English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and explain at least THREE goals for yourself in this class.  Make your goals meaningful, measurable, and realistic.  Feel free to explain why you set these particular goa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ARTS OF AN ESS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5:14:23Z</dcterms:created>
  <dc:creator>awerner</dc:creator>
  <dc:description/>
  <dc:language>en-US</dc:language>
  <cp:lastModifiedBy>awerner</cp:lastModifiedBy>
  <dcterms:modified xsi:type="dcterms:W3CDTF">2008-09-02T15:19:21Z</dcterms:modified>
  <cp:revision>3</cp:revision>
  <dc:subject/>
  <dc:title>Name Tents</dc:title>
</cp:coreProperties>
</file>